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44F-CF14-4CAB-801F-2EFE5912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325-22B3-41D5-8840-79A199B3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8541-8415-4C71-B771-8B76D4CE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4F52-29BA-4DAD-821C-7CC49DDE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AF5A-1CE5-4A94-AC87-A0E32F2F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0F36-32EA-474A-A8BD-BE522C63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C926-9140-4D65-9515-D6FF2373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E750-E258-48DD-9921-CB454ACE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B405-CC4F-4271-939A-426A2A83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BA48-44EC-4D3A-A90D-C2C0E933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BC6-745B-4336-BCA8-2AD27AC7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C8BC-937B-4DB2-A27C-B324AB7A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F3CE-A880-4937-A381-B7760FEF0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1 – Flow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82882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1 – Flow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257800" cy="48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#2 – Comparison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41008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3 - Bra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35120"/>
            <a:ext cx="815328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5 – Basic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847880"/>
            <a:ext cx="5638680" cy="3647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283440" y="2133720"/>
            <a:ext cx="2403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5 – Complex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52480" y="1425600"/>
            <a:ext cx="56390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7:45:04Z</dcterms:created>
  <dc:creator>MCPASD</dc:creator>
  <dc:description/>
  <dc:language>en-US</dc:language>
  <cp:lastModifiedBy>MCPASD</cp:lastModifiedBy>
  <dcterms:modified xsi:type="dcterms:W3CDTF">2011-10-10T17:45:12Z</dcterms:modified>
  <cp:revision>1</cp:revision>
  <dc:subject/>
  <dc:title>Example #1 – Flow Chart</dc:title>
</cp:coreProperties>
</file>